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2238-F536-4E8A-BCBE-E7249BF108F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zione come in modalità present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operazionismo a 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Nota programmato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Quesito scelta multip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sposta esatta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eedback risposta esat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atto: Questo esempio, descritto da Bailey, esprime in pieno l’esigenza di trasformare in operazioni concrete le proposizioni e le ipotesi da verificare. In altre parole, la felicità e la genialità non sono concetti astratti, ciò che è misurato attraverso specifiche operazioni come ad esempio, la somministrazione di un te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eedback risposta err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ttenzione. Questa proposizione non traduce in termini operativi l’affermazione ‘I geni sono infelici’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 d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ico a slide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orico a slide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ico a slid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ativo a slid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erca azione a slide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imentale a slid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482760" y="380880"/>
            <a:ext cx="10109520" cy="649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"/>
          <p:cNvGraphicFramePr/>
          <p:nvPr/>
        </p:nvGraphicFramePr>
        <p:xfrm>
          <a:off x="-453960" y="6858000"/>
          <a:ext cx="101059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453960" y="6858000"/>
                    <a:ext cx="101059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" name=""/>
          <p:cNvGraphicFramePr/>
          <p:nvPr/>
        </p:nvGraphicFramePr>
        <p:xfrm>
          <a:off x="-482760" y="-27000"/>
          <a:ext cx="10109520" cy="79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482760" y="-27000"/>
                    <a:ext cx="10109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1042920" y="501480"/>
            <a:ext cx="4081680" cy="24624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</a:rPr>
              <a:t>Lezione 1: i fattori che incidono nella scelta della rice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2920" y="58680"/>
            <a:ext cx="5851440" cy="58068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Metodologia della ricerca  in educazione e formazione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25880" y="6948360"/>
            <a:ext cx="900000" cy="23400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8EB2-6925-4A52-9AC9-F84BE32C4C6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 i 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-466560" y="803160"/>
            <a:ext cx="8820000" cy="24156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468360" y="804960"/>
            <a:ext cx="8791560" cy="239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62000" y="2478240"/>
            <a:ext cx="655344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biettivi, ipotesi e met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 questa lezione saranno trattati i seguenti argomen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li obiettivi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 ipotesi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l metodo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>
            <a:lum contrast="-6000"/>
          </a:blip>
          <a:stretch/>
        </p:blipFill>
        <p:spPr>
          <a:xfrm>
            <a:off x="666720" y="2259000"/>
            <a:ext cx="120024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-260280" y="762120"/>
            <a:ext cx="21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ricerche descrit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43400" y="2124000"/>
            <a:ext cx="426708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n sempre disponiamo di precise ipotesi di ricerca e dunque è necessario iniziare lo studio di un fenomeno da indagini esplorative e descrit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 esempio nel lavoro sulla dispersione nell'università, all'inizio conoscevamo molto poco sulle caratteristiche del fenomeno e sulla sua entità numerica. C‘era ancora bisogno di classificare i "tipi" di abbandono diver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tudio descrittiv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isponde alla domanda "Che cosa sta accadendo?", in contrapposizione agli studi esplicativi che mirano a spiegare il perché e il come è accadu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28940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-191160" y="762120"/>
            <a:ext cx="31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ricerche basate su correl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67400" y="1390680"/>
            <a:ext cx="426708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icerca basata su correlazion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samina i fenomeni senza intervenire su di essi per modificarli (se non per il fatto di rilevare i dati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 esempio le grandi indagini internazionali dell’IEA o la OCSE-PISA sono indagini basate sulla ricerca di relazion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iò che si cerca è la conferma delle nostre ipotesi sulle relazioni tra le variabili in e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esta ipotesi viene confermata da appositi test statisti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 conferma di una associazione non casuale tra variabili non consente di affermare un nesso caus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5800" y="2965320"/>
            <a:ext cx="3276720" cy="2826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57200" y="2233440"/>
            <a:ext cx="274320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-255960" y="762120"/>
            <a:ext cx="23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ricerche speriment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00600" y="1955880"/>
            <a:ext cx="373392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nno caratter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perimenta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quegli studi che consentono di verificare gli effetti di un intervento (trattamento) su una variabile assunta come dipend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l disegno sperimentale definisce le procedure da adottare e i tipi di controllo necessari perché le informazioni ricavate dall’esperimento possano essere utilizza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 studio sperimentale verifica l’ipotesi “L’introduzione della variabil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(trattamento)  causerà la  [tale] modifica della variabile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X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482840" y="2217600"/>
            <a:ext cx="1031760" cy="1219320"/>
            <a:chOff x="1482840" y="2217600"/>
            <a:chExt cx="1031760" cy="121932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rcRect l="0" t="0" r="52656" b="0"/>
            <a:stretch/>
          </p:blipFill>
          <p:spPr>
            <a:xfrm>
              <a:off x="1482840" y="2217600"/>
              <a:ext cx="4982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rcRect l="0" t="0" r="52656" b="0"/>
            <a:stretch/>
          </p:blipFill>
          <p:spPr>
            <a:xfrm>
              <a:off x="2016000" y="2217600"/>
              <a:ext cx="498600" cy="121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1571400" y="3513240"/>
            <a:ext cx="2293920" cy="764280"/>
            <a:chOff x="1571400" y="3513240"/>
            <a:chExt cx="2293920" cy="764280"/>
          </a:xfrm>
        </p:grpSpPr>
        <p:sp>
          <p:nvSpPr>
            <p:cNvPr id="145" name=""/>
            <p:cNvSpPr/>
            <p:nvPr/>
          </p:nvSpPr>
          <p:spPr>
            <a:xfrm>
              <a:off x="1571400" y="3513240"/>
              <a:ext cx="740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9933"/>
                  </a:solidFill>
                  <a:latin typeface="Wingdings 3"/>
                  <a:ea typeface="Wingdings 3"/>
                </a:rPr>
                <a:t>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02440" y="3589200"/>
              <a:ext cx="1262880" cy="337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Variabile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523880" y="4199040"/>
            <a:ext cx="2362320" cy="1135080"/>
            <a:chOff x="1523880" y="4199040"/>
            <a:chExt cx="2362320" cy="1135080"/>
          </a:xfrm>
        </p:grpSpPr>
        <p:pic>
          <p:nvPicPr>
            <p:cNvPr id="148" name="" descr=""/>
            <p:cNvPicPr/>
            <p:nvPr/>
          </p:nvPicPr>
          <p:blipFill>
            <a:blip r:embed="rId3"/>
            <a:stretch/>
          </p:blipFill>
          <p:spPr>
            <a:xfrm>
              <a:off x="1523880" y="4199040"/>
              <a:ext cx="395280" cy="11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4"/>
            <a:stretch/>
          </p:blipFill>
          <p:spPr>
            <a:xfrm>
              <a:off x="2057400" y="4199040"/>
              <a:ext cx="39528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590920" y="4427640"/>
              <a:ext cx="1295280" cy="580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odifica variabile X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81160" y="1631880"/>
            <a:ext cx="685800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Riepilogando quanto visto finor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Obiettivo di una ricerca è la verifica di una o più ipotesi. Un'ipotesi  è una affermazione su un evento futuro o comunque su un evento il cui esito è sconosciuto al momento in cui viene fatta l'affermazione, costruita in modo di poter essere respinta” (Blalo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Per formulare ipotesi verificabile è necessario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operazionalizzare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i concetti, cioè definirli sulla base di un corrispondente gruppo di operazion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’ possibile scegliere tra approcci e modalità diversi per procedere all’impostazione di una ricerca e alla verifica delle ipotesi. Questi approcci vengono chiamati metodi e metodologie</a:t>
            </a:r>
            <a:r>
              <a:rPr b="0" lang="it-IT" sz="1600" spc="-1" strike="noStrike">
                <a:solidFill>
                  <a:srgbClr val="800080"/>
                </a:solidFill>
                <a:latin typeface="Verdana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finiamo quindi  ‘metodo’ quel percorso che stabilisce l’impianto complessivo dell’attività di ricerca e ne è costitutivo della sua scientific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Le modalità di ricerca possono essere di tre tipi: descrittiva, basata su correlazioni e speriment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330120" y="76212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Riepi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0" y="1768320"/>
            <a:ext cx="117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68520" y="1728720"/>
            <a:ext cx="6208560" cy="4367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728720" y="1832040"/>
            <a:ext cx="57895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concetto di operazionismo è legato al lavoro del fisico Percy W.  Bridgman (1948), che muoveva dall'idea che i concetti scientifici dovessero essere, come i dati scientifici, pubbli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Un concetto teorico deve dunque essere legato ad operazioni osservabili che qualsiasi persona può osservare o ripete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"In generale per concetto non intendiamo altro che un gruppo di operazioni ; il concetto è sinonimo del corrispondente gruppo di operazioni" (Bridgman, 1948, trad. it. 1973, p. 37) Esiste tuttavia la possibilità di derivare i concetti dalle teorie. (spiega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Bridgman P.W. (1948), </a:t>
            </a: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The logic of Modern Phyisics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New York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Mcmillan; trad. it </a:t>
            </a: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La logica della fisica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Torino, Boringhieri, 197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57360" y="507852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68520" y="1728720"/>
            <a:ext cx="6521400" cy="4500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847880" y="1870200"/>
            <a:ext cx="6000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storico ha dato vita a un settore fortemente sviluppato degli studi pedagogici. Questo tipo di ricerca dedica i suoi sforzi all’esame delle dottrine pedagogiche, delle pratiche educative, della scuola e delle altre istituzioni formative. L’impianto metodologico è legato all’esame delle fonti e ai diversi paradigmi storiografici che regolano la ricostruzione, la narrazione e l’interpretazione di eventi e dottri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73360" y="56736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48520" y="567360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109520" y="2502000"/>
            <a:ext cx="6205680" cy="3768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352520" y="2593800"/>
            <a:ext cx="5456160" cy="29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teorico è volto ad approfondire con strumenti conoscitivi di tipo logico ed epistemologico gli apparati concettuali e i costrutti teorici che stanno alla base della ricerca educativ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uttavia, fare ricerca teorica non significa estraniarsi alla dimensione empirica dell’esperienza che resta sempre un punto di riferimento costante per le ricerche in campo educat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33680" y="56736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08840" y="5673600"/>
            <a:ext cx="699840" cy="274680"/>
          </a:xfrm>
          <a:custGeom>
            <a:avLst/>
            <a:gdLst>
              <a:gd name="textAreaLeft" fmla="*/ 17640 w 699840"/>
              <a:gd name="textAreaRight" fmla="*/ 682200 w 69984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4990" h="21600">
                <a:moveTo>
                  <a:pt x="0" y="0"/>
                </a:moveTo>
                <a:lnTo>
                  <a:pt x="54990" y="0"/>
                </a:lnTo>
                <a:lnTo>
                  <a:pt x="54990" y="21600"/>
                </a:lnTo>
                <a:lnTo>
                  <a:pt x="0" y="21600"/>
                </a:lnTo>
                <a:close/>
              </a:path>
              <a:path fill="lightenLess" w="54990" h="21600">
                <a:moveTo>
                  <a:pt x="0" y="0"/>
                </a:moveTo>
                <a:lnTo>
                  <a:pt x="54990" y="0"/>
                </a:lnTo>
                <a:lnTo>
                  <a:pt x="53590" y="1400"/>
                </a:lnTo>
                <a:lnTo>
                  <a:pt x="1400" y="1400"/>
                </a:lnTo>
                <a:close/>
              </a:path>
              <a:path fill="darken" w="54990" h="21600">
                <a:moveTo>
                  <a:pt x="54990" y="0"/>
                </a:moveTo>
                <a:lnTo>
                  <a:pt x="54990" y="21600"/>
                </a:lnTo>
                <a:lnTo>
                  <a:pt x="53590" y="20200"/>
                </a:lnTo>
                <a:lnTo>
                  <a:pt x="53590" y="1400"/>
                </a:lnTo>
                <a:close/>
              </a:path>
              <a:path fill="darkenLess" w="54990" h="21600">
                <a:moveTo>
                  <a:pt x="54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90" y="20200"/>
                </a:lnTo>
                <a:close/>
              </a:path>
              <a:path fill="lighten" w="54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08840" y="5673600"/>
            <a:ext cx="699840" cy="274680"/>
          </a:xfrm>
          <a:custGeom>
            <a:avLst/>
            <a:gdLst>
              <a:gd name="textAreaLeft" fmla="*/ 17640 w 699840"/>
              <a:gd name="textAreaRight" fmla="*/ 682200 w 69984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4990" h="21600">
                <a:moveTo>
                  <a:pt x="0" y="0"/>
                </a:moveTo>
                <a:lnTo>
                  <a:pt x="54990" y="0"/>
                </a:lnTo>
                <a:lnTo>
                  <a:pt x="54990" y="21600"/>
                </a:lnTo>
                <a:lnTo>
                  <a:pt x="0" y="21600"/>
                </a:lnTo>
                <a:close/>
              </a:path>
              <a:path fill="lightenLess" w="54990" h="21600">
                <a:moveTo>
                  <a:pt x="0" y="0"/>
                </a:moveTo>
                <a:lnTo>
                  <a:pt x="54990" y="0"/>
                </a:lnTo>
                <a:lnTo>
                  <a:pt x="53590" y="1400"/>
                </a:lnTo>
                <a:lnTo>
                  <a:pt x="1400" y="1400"/>
                </a:lnTo>
                <a:close/>
              </a:path>
              <a:path fill="darken" w="54990" h="21600">
                <a:moveTo>
                  <a:pt x="54990" y="0"/>
                </a:moveTo>
                <a:lnTo>
                  <a:pt x="54990" y="21600"/>
                </a:lnTo>
                <a:lnTo>
                  <a:pt x="53590" y="20200"/>
                </a:lnTo>
                <a:lnTo>
                  <a:pt x="53590" y="1400"/>
                </a:lnTo>
                <a:close/>
              </a:path>
              <a:path fill="darkenLess" w="54990" h="21600">
                <a:moveTo>
                  <a:pt x="54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90" y="20200"/>
                </a:lnTo>
                <a:close/>
              </a:path>
              <a:path fill="lighten" w="54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6953400" cy="44341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28600" y="1832040"/>
            <a:ext cx="672480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clinico è una modalità di ricerca che mette al centro del suo interesse l’individuo, nella sua particolarità e nella sua storia person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ù in generale, oggi si intende con approccio clinico un modo di comprendere e spiegare casi concreti e situazioni individuali con particolare attenzione all’analisi qualitativa di singoli casi individuali. Ciò non toglie che, come nel campo medico e psicologico, prevede la possibilità di generalizzazioni quantita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20840" y="539892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6000" y="539892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6000" y="539892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7467480" cy="2614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66760" y="1832040"/>
            <a:ext cx="6915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comparativo adotta il confronto sistematico tra modelli educativi e sistemi formativi di differenti contesti regionali e nazionali. L’educazione comparata può essere, infatti, definita come: la scienza che scopre, analizza e spiega le somiglianze e le differenze fra i fatti educativi nelle loro relazioni con il contesto politico, economico, sociale e cultur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73160" y="38466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48320" y="384660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48320" y="3846600"/>
            <a:ext cx="733680" cy="274680"/>
          </a:xfrm>
          <a:custGeom>
            <a:avLst/>
            <a:gdLst>
              <a:gd name="textAreaLeft" fmla="*/ 17640 w 733680"/>
              <a:gd name="textAreaRight" fmla="*/ 716040 w 73368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7647" h="21600">
                <a:moveTo>
                  <a:pt x="0" y="0"/>
                </a:moveTo>
                <a:lnTo>
                  <a:pt x="57647" y="0"/>
                </a:lnTo>
                <a:lnTo>
                  <a:pt x="57647" y="21600"/>
                </a:lnTo>
                <a:lnTo>
                  <a:pt x="0" y="21600"/>
                </a:lnTo>
                <a:close/>
              </a:path>
              <a:path fill="lightenLess" w="57647" h="21600">
                <a:moveTo>
                  <a:pt x="0" y="0"/>
                </a:moveTo>
                <a:lnTo>
                  <a:pt x="57647" y="0"/>
                </a:lnTo>
                <a:lnTo>
                  <a:pt x="56247" y="1400"/>
                </a:lnTo>
                <a:lnTo>
                  <a:pt x="1400" y="1400"/>
                </a:lnTo>
                <a:close/>
              </a:path>
              <a:path fill="darken" w="57647" h="21600">
                <a:moveTo>
                  <a:pt x="57647" y="0"/>
                </a:moveTo>
                <a:lnTo>
                  <a:pt x="57647" y="21600"/>
                </a:lnTo>
                <a:lnTo>
                  <a:pt x="56247" y="20200"/>
                </a:lnTo>
                <a:lnTo>
                  <a:pt x="56247" y="1400"/>
                </a:lnTo>
                <a:close/>
              </a:path>
              <a:path fill="darkenLess" w="57647" h="21600">
                <a:moveTo>
                  <a:pt x="57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47" y="20200"/>
                </a:lnTo>
                <a:close/>
              </a:path>
              <a:path fill="lighten" w="57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8458200" cy="2691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28600" y="183204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l metodo di ricerca-azione, è un tipo di indagine riflessiva, orientata all’azione e al cambiamento, è condotta da ricercatori che indagano sulle proprie azioni al fine di risolvere situazioni problematiche e tentare di apportare dei miglioramenti. Si tratta di un modo collaborativo attualmente molto discusso per le finalità gli ambiti di applicazione e l’attendibilità dei sui risulta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73360" y="38638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48520" y="38638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48520" y="38638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249840" y="762120"/>
            <a:ext cx="23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Gli obiettiv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1981080"/>
            <a:ext cx="4114800" cy="4324320"/>
          </a:xfrm>
          <a:prstGeom prst="rect">
            <a:avLst/>
          </a:prstGeom>
          <a:solidFill>
            <a:srgbClr val="bfcfe0"/>
          </a:solidFill>
          <a:ln w="15840">
            <a:solidFill>
              <a:srgbClr val="3333cc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81480" y="2416320"/>
            <a:ext cx="322128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Obiettivo di una ricerca è la verifica di una o più ipote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"Un'ipotesi  è una affermazione su un evento futuro o comunque su un evento il cui esito è sconosciuto al momento in cui viene fatta l'affermazione costruita in modo di poter essere respinta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Blalock)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8624" t="0" r="0" b="0"/>
          <a:stretch/>
        </p:blipFill>
        <p:spPr>
          <a:xfrm>
            <a:off x="609480" y="1981080"/>
            <a:ext cx="304812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181160" y="1603440"/>
            <a:ext cx="7962840" cy="38448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181160" y="1832040"/>
            <a:ext cx="769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sperimentale adotta procedure di ricerca rigorose e controllate. L’esperimento in senso stretto prevede l’intervento attivo dello sperimentatore che opera introducendo, sulla base di un modello teorico rigoroso e in una situazione fortemente controllata, una o più variabili indipendenti per verificare gli effetti di queste sulla variabile dipendente, stabilendo un rapporto di causa ed effetto tra l’intervento effettuato e il risultato osservato. Rientrano in questo approccio anche le ricerche basate sull’analisi delle ‘correlazioni’ tra variabil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73360" y="48736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48520" y="48736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148520" y="48736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23436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1600" y="2190600"/>
            <a:ext cx="3733920" cy="2722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724280" y="1752480"/>
            <a:ext cx="403884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 può dire di aver verificato u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potesi 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utti i possibili risultati dell'esperimento o dell'osservazione sono stati definiti prima della verific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ma della verifica sono stati decise le procedure che verranno utilizzate per accertare i risulta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' stato deciso in anticipo quali tra i possibili risultati porteranno a respingere l'ipotesi o ad accettarl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 è effettuato un esperimento con rigorosa osservazione delle procedure per la rilevazione dei da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21564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848200" y="2476440"/>
            <a:ext cx="3124440" cy="1123920"/>
            <a:chOff x="5848200" y="2476440"/>
            <a:chExt cx="3124440" cy="1123920"/>
          </a:xfrm>
        </p:grpSpPr>
        <p:sp>
          <p:nvSpPr>
            <p:cNvPr id="66" name=""/>
            <p:cNvSpPr/>
            <p:nvPr/>
          </p:nvSpPr>
          <p:spPr>
            <a:xfrm>
              <a:off x="5848200" y="2476440"/>
              <a:ext cx="3124440" cy="112392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05440" y="2647800"/>
              <a:ext cx="27432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’utilizzazione sistematica di audiovisivi favorisce nella scuola media un apprendimento migliore delle lingue strani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-57240" y="4194000"/>
            <a:ext cx="3143520" cy="1216080"/>
            <a:chOff x="-57240" y="4194000"/>
            <a:chExt cx="3143520" cy="1216080"/>
          </a:xfrm>
        </p:grpSpPr>
        <p:sp>
          <p:nvSpPr>
            <p:cNvPr id="69" name=""/>
            <p:cNvSpPr/>
            <p:nvPr/>
          </p:nvSpPr>
          <p:spPr>
            <a:xfrm>
              <a:off x="-57240" y="4194000"/>
              <a:ext cx="3143520" cy="121608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3200" y="4346640"/>
              <a:ext cx="274320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siste una correlazione significativa tra il livello della spesa e dell'investimento formativo ed i risultati di apprendimento degli studenti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-38160" y="2381400"/>
            <a:ext cx="3143160" cy="1353960"/>
            <a:chOff x="-38160" y="2381400"/>
            <a:chExt cx="3143160" cy="1353960"/>
          </a:xfrm>
        </p:grpSpPr>
        <p:sp>
          <p:nvSpPr>
            <p:cNvPr id="72" name=""/>
            <p:cNvSpPr/>
            <p:nvPr/>
          </p:nvSpPr>
          <p:spPr>
            <a:xfrm>
              <a:off x="-38160" y="2381400"/>
              <a:ext cx="3143160" cy="135396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080" y="2400480"/>
              <a:ext cx="3048120" cy="12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 livelli di profitto in italiano alla fine della scuola elementare degli studenti che hanno frequentato la scuola materna sono migliori di quelli degli studenti che non la hanno frequentat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304920" y="1523880"/>
            <a:ext cx="83055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'organizzazione dell’attività formativa può essere oggetto di ricerca sperimentale. Ecco alcuni esemp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829480" y="4118040"/>
            <a:ext cx="3143160" cy="1353960"/>
            <a:chOff x="5829480" y="4118040"/>
            <a:chExt cx="3143160" cy="1353960"/>
          </a:xfrm>
        </p:grpSpPr>
        <p:sp>
          <p:nvSpPr>
            <p:cNvPr id="76" name=""/>
            <p:cNvSpPr/>
            <p:nvPr/>
          </p:nvSpPr>
          <p:spPr>
            <a:xfrm>
              <a:off x="5829480" y="4118040"/>
              <a:ext cx="3143160" cy="135396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05440" y="4194000"/>
              <a:ext cx="297180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Gli studenti che nel corso della scuola media hanno studiato con procedure di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Verdana"/>
                </a:rPr>
                <a:t>Mastery Learning</a:t>
              </a: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 ottengono risultati migliori rispetto a studenti che hanno seguito procedure tradizional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" name="78042" descr=""/>
          <p:cNvPicPr/>
          <p:nvPr/>
        </p:nvPicPr>
        <p:blipFill>
          <a:blip r:embed="rId1"/>
          <a:srcRect l="0" t="0" r="0" b="9094"/>
          <a:stretch/>
        </p:blipFill>
        <p:spPr>
          <a:xfrm>
            <a:off x="3505320" y="2743200"/>
            <a:ext cx="2077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-25344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10160" y="1833480"/>
            <a:ext cx="426708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e procedure e gli strumenti di controllo dell’attività formativa possono essere oggetti di ricer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d esemp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l Progetto Pilota 2 non fornisce misure valide ed attendibili e dunque è solo uno spreco di risor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'uso del metodo IPS di misurazione del profitto consente di ottenere risultati nelle abilità di produzione scritta migliori dell'uso del metodo tradiz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'uso del metodo IPS di misurazione del profitto consente di ottenere risultati nelle abilità di produzione scritta migliori dell'uso del metodo tradizion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" y="2171880"/>
            <a:ext cx="373392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25344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1406520"/>
            <a:ext cx="426708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er formulare ipotesi verificabili è necessario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operazionalizzar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i concetti, cioè definirli a livello empirico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oltre è necessario che una proposizione contenga una sola ipotesi per poter essere facilmente verific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concetto di </a:t>
            </a:r>
            <a:r>
              <a:rPr b="1" lang="it-IT" sz="1800" spc="-1" strike="noStrike" u="sng">
                <a:solidFill>
                  <a:srgbClr val="0033cc"/>
                </a:solidFill>
                <a:uFillTx/>
                <a:latin typeface="Verdana"/>
              </a:rPr>
              <a:t>operazionism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è legato al lavoro del fisico Percy W.  Bridgman che muoveva dall'idea che i concetti scientifici dovessero essere, come i dati scientifici, pubblic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 concetto teorico deve dunque essere legato ad operazioni osservabili che qualsiasi persona può osservare o ripet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406520"/>
            <a:ext cx="2209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In generale per concetto non intendiamo altro che un gruppo di operazioni; il concetto è sinonimo del corrispondente gruppo di operazioni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52480" y="3048120"/>
            <a:ext cx="1600200" cy="226368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1753200" y="5410080"/>
            <a:ext cx="16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Percy W.  Bridg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3200400"/>
            <a:ext cx="121932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3200400"/>
            <a:ext cx="0" cy="11430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4343400"/>
            <a:ext cx="685800" cy="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25848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2809800"/>
            <a:ext cx="69721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geni sono infelici significa che: "Quanto più elevato è il punteggio al test di intelligenza XY tanto più basso è il punteggio al test di felicità WZ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geni sono infelici significa che: “il concetto di genialità ha un significato opposto e incompatibile con il concetto di felicità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geni sono infelici significa che: “L’osservazione di un gruppo  di persone ritenute geniali ha evidenziato un’alta correlazione con un sentimento di infelicità person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368360"/>
            <a:ext cx="8305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guendo i principi dell’operazionismo la proposizione "I geni sono infelici", potrebbe essere verificata solo se trasformata in una nuova proposizione in grado di stabilire un rapporto (operazionale) tra i due concett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ale, tra le seguenti proposizioni, rispetta i criteri dell’operazionism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62360" y="5705640"/>
            <a:ext cx="341784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269280" y="762120"/>
            <a:ext cx="218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l metodo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62440" y="1905120"/>
            <a:ext cx="39625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’ possibile scegliere tra approcci e modalità diversi per procedere all’impostazione di una ricerca e alla verifica delle ipotes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n alcuni trattati questi approcci vengono chiamati metodi e metodologie</a:t>
            </a:r>
            <a:r>
              <a:rPr b="0" lang="it-IT" sz="1600" spc="-1" strike="noStrike">
                <a:solidFill>
                  <a:srgbClr val="800080"/>
                </a:solidFill>
                <a:latin typeface="Verdana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l termine metodo viene dal greco ed è composto da un prefisso </a:t>
            </a:r>
            <a:r>
              <a:rPr b="1" i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μετά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he indica il seguire qualcosa e dalla parola </a:t>
            </a:r>
            <a:r>
              <a:rPr b="1" i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όδός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he significa strada, percor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Noi definiremo con ‘metodo’: quel percorso che stabilisce l’impianto complessivo dell’attività di ricerca e ne è costitutivo della sua scientificità.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23960" y="1959120"/>
            <a:ext cx="3070080" cy="3450960"/>
          </a:xfrm>
          <a:prstGeom prst="rect">
            <a:avLst/>
          </a:prstGeom>
          <a:ln w="0">
            <a:noFill/>
          </a:ln>
          <a:effectLst>
            <a:outerShdw dist="56832" dir="7003641" blurRad="0" rotWithShape="0">
              <a:srgbClr val="dddddd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250200" y="762120"/>
            <a:ext cx="218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l metodo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219320" y="2971800"/>
            <a:ext cx="1599840" cy="457200"/>
            <a:chOff x="1219320" y="2971800"/>
            <a:chExt cx="1599840" cy="457200"/>
          </a:xfrm>
        </p:grpSpPr>
        <p:sp>
          <p:nvSpPr>
            <p:cNvPr id="99" name=""/>
            <p:cNvSpPr/>
            <p:nvPr/>
          </p:nvSpPr>
          <p:spPr>
            <a:xfrm>
              <a:off x="1219320" y="3036600"/>
              <a:ext cx="1599840" cy="32688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9320" y="2971800"/>
              <a:ext cx="135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teor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219320" y="2514600"/>
            <a:ext cx="1599840" cy="533160"/>
            <a:chOff x="1219320" y="2514600"/>
            <a:chExt cx="1599840" cy="533160"/>
          </a:xfrm>
        </p:grpSpPr>
        <p:sp>
          <p:nvSpPr>
            <p:cNvPr id="102" name=""/>
            <p:cNvSpPr/>
            <p:nvPr/>
          </p:nvSpPr>
          <p:spPr>
            <a:xfrm>
              <a:off x="1219320" y="2633400"/>
              <a:ext cx="1599840" cy="3384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19320" y="2514600"/>
              <a:ext cx="13708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stor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219320" y="3352680"/>
            <a:ext cx="1599840" cy="457200"/>
            <a:chOff x="1219320" y="3352680"/>
            <a:chExt cx="1599840" cy="457200"/>
          </a:xfrm>
        </p:grpSpPr>
        <p:sp>
          <p:nvSpPr>
            <p:cNvPr id="105" name=""/>
            <p:cNvSpPr/>
            <p:nvPr/>
          </p:nvSpPr>
          <p:spPr>
            <a:xfrm>
              <a:off x="1219320" y="3424680"/>
              <a:ext cx="1599840" cy="3261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19320" y="3352680"/>
              <a:ext cx="1257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clin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219320" y="3809880"/>
            <a:ext cx="16002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compar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19320" y="4114800"/>
            <a:ext cx="1599840" cy="533520"/>
            <a:chOff x="1219320" y="4114800"/>
            <a:chExt cx="1599840" cy="533520"/>
          </a:xfrm>
        </p:grpSpPr>
        <p:sp>
          <p:nvSpPr>
            <p:cNvPr id="109" name=""/>
            <p:cNvSpPr/>
            <p:nvPr/>
          </p:nvSpPr>
          <p:spPr>
            <a:xfrm>
              <a:off x="1219320" y="4205160"/>
              <a:ext cx="1599840" cy="36684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9320" y="4114800"/>
              <a:ext cx="1599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ricerca-az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219320" y="4648320"/>
            <a:ext cx="160020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peri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2743200"/>
            <a:ext cx="221004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crit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3581280"/>
            <a:ext cx="221004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sata su correl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71560" y="199548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dalità di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68520" y="2971800"/>
            <a:ext cx="1600200" cy="1600200"/>
          </a:xfrm>
          <a:prstGeom prst="ellipse">
            <a:avLst/>
          </a:prstGeom>
          <a:solidFill>
            <a:srgbClr val="0066cc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3484440"/>
            <a:ext cx="184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roblema da risolv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495680"/>
            <a:ext cx="220968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peri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514600"/>
            <a:ext cx="609120" cy="271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0864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086486"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181480" y="2438280"/>
            <a:ext cx="609120" cy="271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0864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086486"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200040" y="3809880"/>
            <a:ext cx="15228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028840" y="3809880"/>
            <a:ext cx="15228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69280" y="19810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po di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066680"/>
            <a:ext cx="8153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ahoma"/>
              </a:rPr>
              <a:t>La ricerca ruota attorno ad un obiettivo centrale rappresentato dal problema da risolvere. Può essere classificata sulla base dei differenti ‘tipi’ e sulla base delle differenti ‘modalità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66760" y="5581800"/>
            <a:ext cx="33685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61800" y="5645160"/>
            <a:ext cx="298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Verdana"/>
              </a:rPr>
              <a:t>Fai clic sui differenti tipi di ricerca per una breve descri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2" action="ppaction://hlinksldjump"/>
          </p:cNvPr>
          <p:cNvSpPr/>
          <p:nvPr/>
        </p:nvSpPr>
        <p:spPr>
          <a:xfrm>
            <a:off x="1562040" y="2633760"/>
            <a:ext cx="914400" cy="338040"/>
          </a:xfrm>
          <a:custGeom>
            <a:avLst/>
            <a:gdLst>
              <a:gd name="textAreaLeft" fmla="*/ 21600 w 914400"/>
              <a:gd name="textAreaRight" fmla="*/ 892800 w 914400"/>
              <a:gd name="textAreaTop" fmla="*/ 21600 h 338040"/>
              <a:gd name="textAreaBottom" fmla="*/ 316440 h 338040"/>
            </a:gdLst>
            <a:ahLst/>
            <a:rect l="textAreaLeft" t="textAreaTop" r="textAreaRight" b="textAreaBottom"/>
            <a:pathLst>
              <a:path w="58389" h="21600">
                <a:moveTo>
                  <a:pt x="0" y="0"/>
                </a:moveTo>
                <a:lnTo>
                  <a:pt x="58389" y="0"/>
                </a:lnTo>
                <a:lnTo>
                  <a:pt x="58389" y="21600"/>
                </a:lnTo>
                <a:lnTo>
                  <a:pt x="0" y="21600"/>
                </a:lnTo>
                <a:close/>
              </a:path>
              <a:path fill="lightenLess" w="58389" h="21600">
                <a:moveTo>
                  <a:pt x="0" y="0"/>
                </a:moveTo>
                <a:lnTo>
                  <a:pt x="58389" y="0"/>
                </a:lnTo>
                <a:lnTo>
                  <a:pt x="56989" y="1400"/>
                </a:lnTo>
                <a:lnTo>
                  <a:pt x="1400" y="1400"/>
                </a:lnTo>
                <a:close/>
              </a:path>
              <a:path fill="darken" w="58389" h="21600">
                <a:moveTo>
                  <a:pt x="58389" y="0"/>
                </a:moveTo>
                <a:lnTo>
                  <a:pt x="58389" y="21600"/>
                </a:lnTo>
                <a:lnTo>
                  <a:pt x="56989" y="20200"/>
                </a:lnTo>
                <a:lnTo>
                  <a:pt x="56989" y="1400"/>
                </a:lnTo>
                <a:close/>
              </a:path>
              <a:path fill="darkenLess" w="58389" h="21600">
                <a:moveTo>
                  <a:pt x="58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989" y="20200"/>
                </a:lnTo>
                <a:close/>
              </a:path>
              <a:path fill="lighten" w="58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3" action="ppaction://hlinksldjump"/>
          </p:cNvPr>
          <p:cNvSpPr/>
          <p:nvPr/>
        </p:nvSpPr>
        <p:spPr>
          <a:xfrm>
            <a:off x="1562040" y="3036960"/>
            <a:ext cx="914400" cy="315720"/>
          </a:xfrm>
          <a:custGeom>
            <a:avLst/>
            <a:gdLst>
              <a:gd name="textAreaLeft" fmla="*/ 20160 w 914400"/>
              <a:gd name="textAreaRight" fmla="*/ 894240 w 914400"/>
              <a:gd name="textAreaTop" fmla="*/ 20160 h 315720"/>
              <a:gd name="textAreaBottom" fmla="*/ 295560 h 315720"/>
            </a:gdLst>
            <a:ahLst/>
            <a:rect l="textAreaLeft" t="textAreaTop" r="textAreaRight" b="textAreaBottom"/>
            <a:pathLst>
              <a:path w="62512" h="21600">
                <a:moveTo>
                  <a:pt x="0" y="0"/>
                </a:moveTo>
                <a:lnTo>
                  <a:pt x="62512" y="0"/>
                </a:lnTo>
                <a:lnTo>
                  <a:pt x="62512" y="21600"/>
                </a:lnTo>
                <a:lnTo>
                  <a:pt x="0" y="21600"/>
                </a:lnTo>
                <a:close/>
              </a:path>
              <a:path fill="lightenLess" w="62512" h="21600">
                <a:moveTo>
                  <a:pt x="0" y="0"/>
                </a:moveTo>
                <a:lnTo>
                  <a:pt x="62512" y="0"/>
                </a:lnTo>
                <a:lnTo>
                  <a:pt x="61112" y="1400"/>
                </a:lnTo>
                <a:lnTo>
                  <a:pt x="1400" y="1400"/>
                </a:lnTo>
                <a:close/>
              </a:path>
              <a:path fill="darken" w="62512" h="21600">
                <a:moveTo>
                  <a:pt x="62512" y="0"/>
                </a:moveTo>
                <a:lnTo>
                  <a:pt x="62512" y="21600"/>
                </a:lnTo>
                <a:lnTo>
                  <a:pt x="61112" y="20200"/>
                </a:lnTo>
                <a:lnTo>
                  <a:pt x="61112" y="1400"/>
                </a:lnTo>
                <a:close/>
              </a:path>
              <a:path fill="darkenLess" w="62512" h="21600">
                <a:moveTo>
                  <a:pt x="62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112" y="20200"/>
                </a:lnTo>
                <a:close/>
              </a:path>
              <a:path fill="lighten" w="62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4" action="ppaction://hlinksldjump"/>
          </p:cNvPr>
          <p:cNvSpPr/>
          <p:nvPr/>
        </p:nvSpPr>
        <p:spPr>
          <a:xfrm>
            <a:off x="1219320" y="3424320"/>
            <a:ext cx="1600200" cy="326880"/>
          </a:xfrm>
          <a:custGeom>
            <a:avLst/>
            <a:gdLst>
              <a:gd name="textAreaLeft" fmla="*/ 20880 w 1600200"/>
              <a:gd name="textAreaRight" fmla="*/ 1579320 w 1600200"/>
              <a:gd name="textAreaTop" fmla="*/ 20880 h 326880"/>
              <a:gd name="textAreaBottom" fmla="*/ 306000 h 326880"/>
            </a:gdLst>
            <a:ahLst/>
            <a:rect l="textAreaLeft" t="textAreaTop" r="textAreaRight" b="textAreaBottom"/>
            <a:pathLst>
              <a:path w="105648" h="21600">
                <a:moveTo>
                  <a:pt x="0" y="0"/>
                </a:moveTo>
                <a:lnTo>
                  <a:pt x="105648" y="0"/>
                </a:lnTo>
                <a:lnTo>
                  <a:pt x="105648" y="21600"/>
                </a:lnTo>
                <a:lnTo>
                  <a:pt x="0" y="21600"/>
                </a:lnTo>
                <a:close/>
              </a:path>
              <a:path fill="lightenLess" w="105648" h="21600">
                <a:moveTo>
                  <a:pt x="0" y="0"/>
                </a:moveTo>
                <a:lnTo>
                  <a:pt x="105648" y="0"/>
                </a:lnTo>
                <a:lnTo>
                  <a:pt x="104248" y="1400"/>
                </a:lnTo>
                <a:lnTo>
                  <a:pt x="1400" y="1400"/>
                </a:lnTo>
                <a:close/>
              </a:path>
              <a:path fill="darken" w="105648" h="21600">
                <a:moveTo>
                  <a:pt x="105648" y="0"/>
                </a:moveTo>
                <a:lnTo>
                  <a:pt x="105648" y="21600"/>
                </a:lnTo>
                <a:lnTo>
                  <a:pt x="104248" y="20200"/>
                </a:lnTo>
                <a:lnTo>
                  <a:pt x="104248" y="1400"/>
                </a:lnTo>
                <a:close/>
              </a:path>
              <a:path fill="darkenLess" w="105648" h="21600">
                <a:moveTo>
                  <a:pt x="10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248" y="20200"/>
                </a:lnTo>
                <a:close/>
              </a:path>
              <a:path fill="lighten" w="10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5" action="ppaction://hlinksldjump"/>
          </p:cNvPr>
          <p:cNvSpPr/>
          <p:nvPr/>
        </p:nvSpPr>
        <p:spPr>
          <a:xfrm>
            <a:off x="1219320" y="3809880"/>
            <a:ext cx="1600200" cy="304920"/>
          </a:xfrm>
          <a:custGeom>
            <a:avLst/>
            <a:gdLst>
              <a:gd name="textAreaLeft" fmla="*/ 19440 w 1600200"/>
              <a:gd name="textAreaRight" fmla="*/ 1580760 w 1600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11847" y="1400"/>
                </a:lnTo>
                <a:lnTo>
                  <a:pt x="1400" y="1400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11847" y="20200"/>
                </a:lnTo>
                <a:lnTo>
                  <a:pt x="111847" y="1400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847" y="20200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6" action="ppaction://hlinksldjump"/>
          </p:cNvPr>
          <p:cNvSpPr/>
          <p:nvPr/>
        </p:nvSpPr>
        <p:spPr>
          <a:xfrm>
            <a:off x="1219320" y="4205160"/>
            <a:ext cx="1600200" cy="366840"/>
          </a:xfrm>
          <a:custGeom>
            <a:avLst/>
            <a:gdLst>
              <a:gd name="textAreaLeft" fmla="*/ 23760 w 1600200"/>
              <a:gd name="textAreaRight" fmla="*/ 1576440 w 1600200"/>
              <a:gd name="textAreaTop" fmla="*/ 23760 h 366840"/>
              <a:gd name="textAreaBottom" fmla="*/ 343080 h 366840"/>
            </a:gdLst>
            <a:ahLst/>
            <a:rect l="textAreaLeft" t="textAreaTop" r="textAreaRight" b="textAreaBottom"/>
            <a:pathLst>
              <a:path w="94151" h="21600">
                <a:moveTo>
                  <a:pt x="0" y="0"/>
                </a:moveTo>
                <a:lnTo>
                  <a:pt x="94151" y="0"/>
                </a:lnTo>
                <a:lnTo>
                  <a:pt x="94151" y="21600"/>
                </a:lnTo>
                <a:lnTo>
                  <a:pt x="0" y="21600"/>
                </a:lnTo>
                <a:close/>
              </a:path>
              <a:path fill="lightenLess" w="94151" h="21600">
                <a:moveTo>
                  <a:pt x="0" y="0"/>
                </a:moveTo>
                <a:lnTo>
                  <a:pt x="94151" y="0"/>
                </a:lnTo>
                <a:lnTo>
                  <a:pt x="92751" y="1400"/>
                </a:lnTo>
                <a:lnTo>
                  <a:pt x="1400" y="1400"/>
                </a:lnTo>
                <a:close/>
              </a:path>
              <a:path fill="darken" w="94151" h="21600">
                <a:moveTo>
                  <a:pt x="94151" y="0"/>
                </a:moveTo>
                <a:lnTo>
                  <a:pt x="94151" y="21600"/>
                </a:lnTo>
                <a:lnTo>
                  <a:pt x="92751" y="20200"/>
                </a:lnTo>
                <a:lnTo>
                  <a:pt x="92751" y="1400"/>
                </a:lnTo>
                <a:close/>
              </a:path>
              <a:path fill="darkenLess" w="94151" h="21600">
                <a:moveTo>
                  <a:pt x="94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751" y="20200"/>
                </a:lnTo>
                <a:close/>
              </a:path>
              <a:path fill="lighten" w="94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7" action="ppaction://hlinksldjump"/>
          </p:cNvPr>
          <p:cNvSpPr/>
          <p:nvPr/>
        </p:nvSpPr>
        <p:spPr>
          <a:xfrm>
            <a:off x="1219320" y="4648320"/>
            <a:ext cx="1600200" cy="380880"/>
          </a:xfrm>
          <a:custGeom>
            <a:avLst/>
            <a:gdLst>
              <a:gd name="textAreaLeft" fmla="*/ 24480 w 1600200"/>
              <a:gd name="textAreaRight" fmla="*/ 1575720 w 1600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9283" y="1400"/>
                </a:lnTo>
                <a:lnTo>
                  <a:pt x="1400" y="140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9283" y="20200"/>
                </a:lnTo>
                <a:lnTo>
                  <a:pt x="89283" y="140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83" y="2020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09:19:28Z</dcterms:created>
  <dc:creator>riccardo santilli</dc:creator>
  <dc:description/>
  <dc:language>en-US</dc:language>
  <cp:lastModifiedBy>Università degli studi di Roma "La Sapienza"</cp:lastModifiedBy>
  <dcterms:modified xsi:type="dcterms:W3CDTF">2011-03-24T13:58:38Z</dcterms:modified>
  <cp:revision>597</cp:revision>
  <dc:subject/>
  <dc:title>Presentazione di PowerPoint</dc:title>
</cp:coreProperties>
</file>